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F41-8A64-4D6E-9A87-83C0F728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6AE8-A7D0-4BAF-9FD8-50F7121D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487-C307-4781-95BE-008A6034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56BB-985A-4F20-B8D1-033465A9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0B34-1F19-4C7C-8965-DC50CF14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5D4B-146D-499B-AD8A-5FF5904D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4E19-694A-4747-AE80-8E3201EC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1F97-4033-4C31-AF8A-55F2B0A8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551D-74A4-4C73-B364-98B07C9E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B8F9-BCA8-4CCE-AFCC-BC4F91DD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5318-A1D1-4D7D-A891-0AF0B7E8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7CDD-BF0F-4432-B409-D63F2775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022D-8943-4208-B9F5-C7AE6E89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1EC2-28C3-46CD-9B96-EBDE2608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6E45-2873-4C83-B624-CC1C3611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9423-6C86-4A8A-BED2-48A28F4E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678E-FAF8-42A2-B407-AD3EF150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348FD-76C4-48F0-9D00-555B7CB2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22516-AED5-45F8-8631-AB105F02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11F7C-0BB4-4C8B-B315-36F2AFEC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BF383-21A2-4392-B879-27CAB70E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56990-3C93-463C-AFE1-856FDDBA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7C0-4160-4C9C-B891-3AA64A66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0AC54-A202-4BC5-84D0-A80DF6F5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EAF2F-A22C-44EC-B5DF-F47812FD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B476C-11CD-4E76-A200-2CD159F4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4C4AD-ADEF-4B98-91C8-1D90E8B8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6C7BA-2D9B-404B-BB3C-9AF114CE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20969-41DB-4970-8BA3-20B25AEF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FE892-013F-4110-ABE7-5D8846C5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8D5D3-6CD9-46DA-81CB-F681B9D6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12E1B-1B65-46D2-932D-9BA0D341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8B1C7-7ABA-4AA4-8005-F5D846FC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DEC-95B1-405F-AE94-B6B85608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2B6BF-B05D-4D47-9708-B71F27A0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FC69A-42C2-401A-9C9C-0C8B9176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21D9A-AA8F-4F7C-9C68-26E6B49F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29792-2938-4CC6-A7F1-3A4DFB09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1244A-AA4E-47D3-BCBF-6559D1A3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759CA-A0F1-4E03-A39E-FA2F5808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658E9-7E09-4A1A-8449-FDDFE40F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59100-3B7A-44CA-999A-006E9750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25458-0124-4DA4-8DB5-EE99C3BF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2F59-CE6E-415D-934D-B843A528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7163-0FFF-48CA-8EB4-51712A8B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A4D5-EF2C-474E-8CEE-D19014F9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85E1-AA8F-49E4-9B7A-47F90D36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803-B848-4003-8267-03440AE7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1360" y="1670040"/>
            <a:ext cx="2833560" cy="2835360"/>
            <a:chOff x="6291360" y="1670040"/>
            <a:chExt cx="2833560" cy="283536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1360" y="1670040"/>
              <a:ext cx="28335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1520" y="-463680"/>
            <a:ext cx="1614600" cy="1616040"/>
            <a:chOff x="5681520" y="-463680"/>
            <a:chExt cx="1614600" cy="16160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1520" y="-463680"/>
              <a:ext cx="16146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1360" y="6089760"/>
            <a:ext cx="1004760" cy="1006200"/>
            <a:chOff x="6291360" y="6089760"/>
            <a:chExt cx="1004760" cy="100620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1360" y="6089760"/>
              <a:ext cx="100476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8760" y="2664000"/>
            <a:ext cx="4200480" cy="4200480"/>
            <a:chOff x="-158760" y="2664000"/>
            <a:chExt cx="4200480" cy="42004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8760" y="2664000"/>
              <a:ext cx="4200480" cy="42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7800" y="2889360"/>
            <a:ext cx="2378160" cy="2377800"/>
            <a:chOff x="-847800" y="2889360"/>
            <a:chExt cx="2378160" cy="237780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7800" y="2889360"/>
              <a:ext cx="2378160" cy="23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84E5C-B723-426F-9991-8E7DA8274220}" type="slidenum"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1360" y="1670040"/>
            <a:ext cx="2833560" cy="2835360"/>
            <a:chOff x="6291360" y="1670040"/>
            <a:chExt cx="2833560" cy="283536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1360" y="1670040"/>
              <a:ext cx="28335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1520" y="-463680"/>
            <a:ext cx="1614600" cy="1616040"/>
            <a:chOff x="5681520" y="-463680"/>
            <a:chExt cx="1614600" cy="16160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1520" y="-463680"/>
              <a:ext cx="16146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1360" y="6089760"/>
            <a:ext cx="1004760" cy="1006200"/>
            <a:chOff x="6291360" y="6089760"/>
            <a:chExt cx="1004760" cy="100620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1360" y="6089760"/>
              <a:ext cx="100476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8760" y="2664000"/>
            <a:ext cx="4200480" cy="4200480"/>
            <a:chOff x="-158760" y="2664000"/>
            <a:chExt cx="4200480" cy="42004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8760" y="2664000"/>
              <a:ext cx="4200480" cy="42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7800" y="2889360"/>
            <a:ext cx="2378160" cy="2377800"/>
            <a:chOff x="-847800" y="2889360"/>
            <a:chExt cx="2378160" cy="237780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7800" y="2889360"/>
              <a:ext cx="2378160" cy="23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7D147-49D5-43B4-AEB0-7FFC4135BB67}" type="slidenum"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1360" y="1670040"/>
            <a:ext cx="2833560" cy="2835360"/>
            <a:chOff x="6291360" y="1670040"/>
            <a:chExt cx="2833560" cy="283536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1360" y="1670040"/>
              <a:ext cx="28335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1520" y="-463680"/>
            <a:ext cx="1614600" cy="1616040"/>
            <a:chOff x="5681520" y="-463680"/>
            <a:chExt cx="1614600" cy="16160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1520" y="-463680"/>
              <a:ext cx="16146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1360" y="6089760"/>
            <a:ext cx="1004760" cy="1006200"/>
            <a:chOff x="6291360" y="6089760"/>
            <a:chExt cx="1004760" cy="100620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1360" y="6089760"/>
              <a:ext cx="100476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8760" y="2664000"/>
            <a:ext cx="4200480" cy="4200480"/>
            <a:chOff x="-158760" y="2664000"/>
            <a:chExt cx="4200480" cy="42004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8760" y="2664000"/>
              <a:ext cx="4200480" cy="42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7800" y="2889360"/>
            <a:ext cx="2378160" cy="2377800"/>
            <a:chOff x="-847800" y="2889360"/>
            <a:chExt cx="2378160" cy="237780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7800" y="2889360"/>
              <a:ext cx="2378160" cy="23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1E285-5A4D-4964-9871-646ED220FCD9}" type="slidenum"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1360" y="1670040"/>
            <a:ext cx="2833560" cy="2835360"/>
            <a:chOff x="6291360" y="1670040"/>
            <a:chExt cx="2833560" cy="283536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1360" y="1670040"/>
              <a:ext cx="28335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1520" y="-463680"/>
            <a:ext cx="1614600" cy="1616040"/>
            <a:chOff x="5681520" y="-463680"/>
            <a:chExt cx="1614600" cy="16160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1520" y="-463680"/>
              <a:ext cx="16146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1360" y="6089760"/>
            <a:ext cx="1004760" cy="1006200"/>
            <a:chOff x="6291360" y="6089760"/>
            <a:chExt cx="1004760" cy="100620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1360" y="6089760"/>
              <a:ext cx="100476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8760" y="2664000"/>
            <a:ext cx="4200480" cy="4200480"/>
            <a:chOff x="-158760" y="2664000"/>
            <a:chExt cx="4200480" cy="42004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8760" y="2664000"/>
              <a:ext cx="4200480" cy="42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7800" y="2889360"/>
            <a:ext cx="2378160" cy="2377800"/>
            <a:chOff x="-847800" y="2889360"/>
            <a:chExt cx="2378160" cy="237780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7800" y="2889360"/>
              <a:ext cx="2378160" cy="23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82F99-24F3-4E16-A3F1-CDF8FA526834}" type="slidenum"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6000" spc="-1" strike="noStrike">
                <a:solidFill>
                  <a:srgbClr val="ebebeb"/>
                </a:solidFill>
                <a:latin typeface="Century Gothic"/>
              </a:rPr>
              <a:t>Przedsiębiorstwo</a:t>
            </a:r>
            <a:endParaRPr b="0" lang="en-US" sz="6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8ad0d6"/>
                </a:solidFill>
                <a:latin typeface="Century Gothic"/>
              </a:rPr>
              <a:t>POJĘCIE, RODZAJE, FORM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4200" spc="-1" strike="noStrike">
                <a:solidFill>
                  <a:srgbClr val="ebebeb"/>
                </a:solidFill>
                <a:latin typeface="Century Gothic"/>
              </a:rPr>
              <a:t>Efekty skali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187280" y="2060280"/>
            <a:ext cx="74995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Zwiększenie nakładów czynników produkcji prowadzi do wzrostu rozmiarów produkcji. Jednakże podwojenie wszystkich czynników produkcji nie musi oznaczać, że produkcja także wzrośnie dwukrotnie. Należy rozgraniczyć trzy możliwości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entury Gothic"/>
              </a:rPr>
              <a:t>stałe efekty skali, gdy rozmiary produkcji powiększają się w takim samym tempie, jak nakłady czynników produkcji;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entury Gothic"/>
              </a:rPr>
              <a:t>rosnące efekty skali, gdy procentowy wzrost rozmiarów produkcji jest większy od procentowego wzrostu nakładów czynników produkcji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entury Gothic"/>
              </a:rPr>
              <a:t>malejące efekty skali, gdy rozmiary produkcji rosną wolniej niż nakłady czynników produkcji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4200" spc="-1" strike="noStrike">
                <a:solidFill>
                  <a:srgbClr val="ebebeb"/>
                </a:solidFill>
                <a:latin typeface="Century Gothic"/>
              </a:rPr>
              <a:t>Zysk księgowy a ekonomiczn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71280" y="1916280"/>
            <a:ext cx="7715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Zysk rachunkowy (księgowy) oznacza różnicę między utargiem całkowitym firmy (obliczamy go mnożąc ilość sprzedanego produktu przez jego cenę) a kosztami rachunkowymi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Natomiast zysk ekonomiczny (ponadnormalny, czysty, zerowy) stanowi różnicę między utargiem całkowitym przedsiębiorstwa a kosztami ekonomicznymi (Rekowski 1993: 174)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Koszty księgowe (rachunkowe) obejmują wyłącznie faktyczne (udokumentowane) wydatki pieniężne związane z prowadzeniem działalności gospodarczej, takie jak koszty zakupu surowców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i materiałów, płace, amortyzacja, opłaty za energię, dzierżawę lokalu, ziemi itp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Koszty te określa się często jako koszty explicit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Suma kosztów rachunkowych, alternatywnych i zysku normalnego stanowi koszty ekonomiczn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042560" y="1600200"/>
            <a:ext cx="7643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Zysk rachunkowy (księgowy) oznacza różnicę między utargiem całkowitym firmy (obliczamy go mnożąc ilość sprzedanego produktu przez jego cenę) a kosztami rachunkowymi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Natomiast zysk ekonomiczny (ponadnormalny, czysty, zerowy) stanowi różnicę między utargiem całkowitym przedsiębiorstwa a kosztami ekonomicznymi (Rekowski 1993: 174)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4200" spc="-1" strike="noStrike">
                <a:solidFill>
                  <a:srgbClr val="ebebeb"/>
                </a:solidFill>
                <a:latin typeface="Century Gothic"/>
              </a:rPr>
              <a:t>Dawid Kamień 3GF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052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4200" spc="-1" strike="noStrike">
                <a:solidFill>
                  <a:srgbClr val="ebebeb"/>
                </a:solidFill>
                <a:latin typeface="Century Gothic"/>
              </a:rPr>
              <a:t>Pojęcie przedsiębiorstw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042560" y="1989000"/>
            <a:ext cx="76438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900" spc="-1" strike="noStrike">
                <a:solidFill>
                  <a:srgbClr val="ffffff"/>
                </a:solidFill>
                <a:latin typeface="Century Gothic"/>
              </a:rPr>
              <a:t>Przedsiębiorstwo jest wyodrębnioną pod względem ekonomicznym jednostką prowadzącą działalność produkcyjną, handlową lub usługową (Milewski, Kwiatkowski 2005: 107)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900" spc="-1" strike="noStrike">
                <a:solidFill>
                  <a:srgbClr val="ffffff"/>
                </a:solidFill>
                <a:latin typeface="Century Gothic"/>
              </a:rPr>
              <a:t>Odrębność ekonomiczna przedsiębiorstwa oznacza wydzielenie określonego majątku, pokrywanie wydatków z własnych przychodów, posiadanie w banku odrębnego rachunku rozliczeniowego. Formalnym wyrazem odrębności ekonomicznej jest zazwyczaj osobowość prawna, tj. zdolność do zawierania umów i wstępowania w stosunki cywilno-prawne z innymi podmiotami. Organizacyjnych wyrazem odrębności firmy jest sprawowanie zarządzania przez kierownictwo według zasad ustalonych w statucie przedsiębiorstwa oraz w regulaminach wewnętrznych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4200" spc="-1" strike="noStrike">
                <a:solidFill>
                  <a:srgbClr val="ebebeb"/>
                </a:solidFill>
                <a:latin typeface="Century Gothic"/>
              </a:rPr>
              <a:t>Formy własności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258560" y="2492280"/>
            <a:ext cx="74278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Z punktu widzenia form własności możemy wyodrębnić przedsiębiorstwa prywatne, spółdzielcze, państwowe, komunalne i przedsiębiorstwa będące własnością pracowników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2585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Spółka jest umową, na mocy której wspólnicy podejmują wspólną działalność gospodarczą i dążą do osiągnięcia wspólnego celu (Milewski, Kwiatkowski 2005: 107). Biorąc pod uwagę przepisy normujące zasady tworzenia i działania spółek w Polsce, możemy wyodrębnić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spółki cywilne, unormowane przepisami prawa cywilnego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 – 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spółki prawa handlowego, których działanie reguluje kodeks spółek handlowych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4200" spc="-1" strike="noStrike">
                <a:solidFill>
                  <a:srgbClr val="ebebeb"/>
                </a:solidFill>
                <a:latin typeface="Century Gothic"/>
              </a:rPr>
              <a:t>Korzyści skali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619280" y="2276280"/>
            <a:ext cx="7067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pl-PL" sz="2000" spc="-1" strike="noStrike">
                <a:solidFill>
                  <a:srgbClr val="ffffff"/>
                </a:solidFill>
                <a:latin typeface="Century Gothic"/>
              </a:rPr>
              <a:t>Korzyści skali 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pojawiają się wówczas, gdy wraz ze wzrostem rozmiarów produkcji jednostkowe koszty obniżają się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4200" spc="-1" strike="noStrike">
                <a:solidFill>
                  <a:srgbClr val="ebebeb"/>
                </a:solidFill>
                <a:latin typeface="Century Gothic"/>
              </a:rPr>
              <a:t>Majątek przedsiębiorstw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42560" y="2205000"/>
            <a:ext cx="76438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Przedsiębiorstwo posiada określony majątek umożliwiający prowadzenie działalności produkcyjnej, handlowej lub usługowej. Majątek przedsiębiorstwa można podzielić na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entury Gothic"/>
              </a:rPr>
              <a:t>majątek trwały, tj. maszyny, urządzenia produkcyjne, budynki, środki transportu;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entury Gothic"/>
              </a:rPr>
              <a:t>majątek obrotowy, tj. materiały, paliwo i energia, produkcja w toku, wyroby gotowe, przedmioty nietrwałe, środki pieniężne (gotówka w kasie i na koncie w banku, czeki obce) oraz środki pieniężne w rozrachunkach (należności pieniężne u kontrahentów przedsiębiorstwa)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Majątek przedsiębiorstwa może być finansowany w różny sposób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Źródła finansowania środków trwałych i obrotowych dzielimy na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fundusze własne przedsiębiorstwa, będące równowartością wkładu kapitałowego właściciela w przypadku przedsiębiorstw prywatnych i wyposażenia majątkowego otrzymanego z budżetu państwa w przypadku przedsiębiorstw państwowych, powiększonego o część zysku przeznaczoną na rozwój przedsiębiorstwa;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fundusze obce, w skład których wchodzą kredyty bankowe, pożyczki i zobowiązania wobec dostawców, budżetu państwa i innych instytucji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l-PL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Fundusze własne i obce określane są jako pasywa, gdyż w przeciwieństwie do aktywów nie odrywają aktywnej roli w działalności gospodarczej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Ponieważ każdy element majątku ma określone źródło finansowania, suma aktywów musi być równa sumie pasywów — jest to zasada równowagi bilansowej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Usystematyzowane zestawienie wszystkich elementów majątku i źródeł ich pochodzenia, sporządzone na określony dzień i w określonej formie nazywamy bilansem przedsiębiorstw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4200" spc="-1" strike="noStrike">
                <a:solidFill>
                  <a:srgbClr val="ebebeb"/>
                </a:solidFill>
                <a:latin typeface="Century Gothic"/>
              </a:rPr>
              <a:t>Czynniki produkcji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stałe czynniki produkcji — takie, których nakładów nie można zwiększyć w danym okresie (np. grunty i budynki);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zmienne czynniki produkcji — takie, których podaż może być zwiększona w danym okresie szybko i bez dodatkowych inwestycji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08:30:02Z</dcterms:created>
  <dc:creator>Katarzyna Godek</dc:creator>
  <dc:description/>
  <dc:language>en-US</dc:language>
  <cp:lastModifiedBy>admin</cp:lastModifiedBy>
  <dcterms:modified xsi:type="dcterms:W3CDTF">2022-06-23T06:22:51Z</dcterms:modified>
  <cp:revision>43</cp:revision>
  <dc:subject/>
  <dc:title>Prezentacja programu PowerPoint</dc:title>
</cp:coreProperties>
</file>